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227-2C3B-4CCE-9DB8-E6B5AF41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78E-7BA8-4A27-B5E4-D448E4BD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8D2-2752-481A-AD2B-1330559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FC6-FC12-4F92-AB7A-F832D69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C57-53DB-40A4-8B3A-B6E888C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050-72F4-4807-A978-4547FB61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2D8-38AF-402C-84F5-D5B0F24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C23-6B35-4B9D-8487-4CA51B26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8A3-135B-41B2-8C60-B55C154C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613-9356-4B4F-9C12-9948550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445-168F-42A2-843E-E39A63F7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95A-1E1C-4D22-BD1E-AFACDA3E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18A1-88AB-448D-B492-628DCF7611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1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.png"/><Relationship Id="rId4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oe Escher begonnen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jij in zijn voetsporen kunt verder ga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xperimenteren ma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Bijlage 2 staan “stempeltjes”, copieer zo’n blad in een nieuw ppt.be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k ermee een schuifpatro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k met het schuifpatroon een paar randornam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k met het schuifpatroon een paar vlakvul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 het bestand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ip: bekijk bijlage 1 Hulp bij plakken en knippen, copieren en groeperen …..in POWER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.C.Esch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9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28" descr="I:\scans\escherbeginklein.jpg"/>
          <p:cNvPicPr/>
          <p:nvPr/>
        </p:nvPicPr>
        <p:blipFill>
          <a:blip r:embed="rId1"/>
          <a:stretch/>
        </p:blipFill>
        <p:spPr>
          <a:xfrm>
            <a:off x="4049640" y="281160"/>
            <a:ext cx="453384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 zijde stukken van gelijke leng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jden passen aan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I:\scans\escherbegindetailgroter.jpg"/>
          <p:cNvPicPr/>
          <p:nvPr/>
        </p:nvPicPr>
        <p:blipFill>
          <a:blip r:embed="rId1"/>
          <a:stretch/>
        </p:blipFill>
        <p:spPr>
          <a:xfrm>
            <a:off x="3068640" y="577800"/>
            <a:ext cx="4856040" cy="4127400"/>
          </a:xfrm>
          <a:prstGeom prst="rect">
            <a:avLst/>
          </a:prstGeom>
          <a:ln w="0">
            <a:noFill/>
          </a:ln>
        </p:spPr>
      </p:pic>
      <p:sp>
        <p:nvSpPr>
          <p:cNvPr id="49" name="Line 6"/>
          <p:cNvSpPr/>
          <p:nvPr/>
        </p:nvSpPr>
        <p:spPr>
          <a:xfrm flipV="1">
            <a:off x="4419720" y="1447560"/>
            <a:ext cx="53316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5943600" y="3047760"/>
            <a:ext cx="5335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495680" y="312408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3809880" y="914400"/>
            <a:ext cx="3276720" cy="3200400"/>
            <a:chOff x="3809880" y="914400"/>
            <a:chExt cx="3276720" cy="3200400"/>
          </a:xfrm>
        </p:grpSpPr>
        <p:sp>
          <p:nvSpPr>
            <p:cNvPr id="53" name="Line 5"/>
            <p:cNvSpPr/>
            <p:nvPr/>
          </p:nvSpPr>
          <p:spPr>
            <a:xfrm flipV="1">
              <a:off x="3886200" y="198108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H="1">
              <a:off x="4952880" y="91440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V="1">
              <a:off x="5410080" y="358128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V="1">
              <a:off x="6477120" y="2514600"/>
              <a:ext cx="53316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5486400" y="91440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3809880" y="2514600"/>
              <a:ext cx="68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4952880" y="358128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6553080" y="1981080"/>
              <a:ext cx="533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Line 17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scher’s vermaak na bezoek aan Alhamb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empeltje en het spiegelbeeldstempeltje, gemaakt van aardappel, of uit linole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ij gebruiken “copieer en plak” op de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304920" y="2133720"/>
          <a:ext cx="38098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4648320" y="2133720"/>
          <a:ext cx="380988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33720"/>
                    <a:ext cx="38098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andornamen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lakvul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648320" y="1905120"/>
          <a:ext cx="380988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0988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"/>
          <p:cNvGraphicFramePr/>
          <p:nvPr/>
        </p:nvGraphicFramePr>
        <p:xfrm>
          <a:off x="4648320" y="3733920"/>
          <a:ext cx="3666960" cy="27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733920"/>
                    <a:ext cx="366696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228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empeltje in vier st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04920" y="3657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gelbeeld-stempeltje in vier st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380880" y="1066680"/>
          <a:ext cx="175284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17528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2666880" y="1066680"/>
          <a:ext cx="175284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066680"/>
                    <a:ext cx="17528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6"/>
          <p:cNvGraphicFramePr/>
          <p:nvPr/>
        </p:nvGraphicFramePr>
        <p:xfrm>
          <a:off x="4876920" y="1066680"/>
          <a:ext cx="1752480" cy="175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0666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7"/>
          <p:cNvGraphicFramePr/>
          <p:nvPr/>
        </p:nvGraphicFramePr>
        <p:xfrm>
          <a:off x="7086600" y="1066680"/>
          <a:ext cx="1752480" cy="17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0666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8"/>
          <p:cNvGraphicFramePr/>
          <p:nvPr/>
        </p:nvGraphicFramePr>
        <p:xfrm>
          <a:off x="4800600" y="4800600"/>
          <a:ext cx="1752480" cy="17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800600"/>
                    <a:ext cx="1752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666880" y="4800600"/>
          <a:ext cx="1752840" cy="175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800600"/>
                    <a:ext cx="1752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380880" y="4800600"/>
          <a:ext cx="1752840" cy="1752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4800600"/>
                    <a:ext cx="1752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7010280" y="4800600"/>
          <a:ext cx="1752840" cy="175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4800600"/>
                    <a:ext cx="1752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0"/>
            <a:ext cx="5486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huifpatro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haling ge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NDORNA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5867280" y="762120"/>
            <a:ext cx="1067040" cy="2133360"/>
            <a:chOff x="5867280" y="762120"/>
            <a:chExt cx="1067040" cy="2133360"/>
          </a:xfrm>
        </p:grpSpPr>
        <p:graphicFrame>
          <p:nvGraphicFramePr>
            <p:cNvPr id="93" name="Object 11"/>
            <p:cNvGraphicFramePr/>
            <p:nvPr/>
          </p:nvGraphicFramePr>
          <p:xfrm>
            <a:off x="5867280" y="762120"/>
            <a:ext cx="1067040" cy="106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7280" y="762120"/>
                      <a:ext cx="106704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Object 12"/>
            <p:cNvGraphicFramePr/>
            <p:nvPr/>
          </p:nvGraphicFramePr>
          <p:xfrm>
            <a:off x="5867280" y="1828800"/>
            <a:ext cx="1067040" cy="106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1828800"/>
                      <a:ext cx="106704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" name="Group 24"/>
          <p:cNvGrpSpPr/>
          <p:nvPr/>
        </p:nvGrpSpPr>
        <p:grpSpPr>
          <a:xfrm>
            <a:off x="304920" y="4419720"/>
            <a:ext cx="1066680" cy="2133360"/>
            <a:chOff x="304920" y="4419720"/>
            <a:chExt cx="1066680" cy="2133360"/>
          </a:xfrm>
        </p:grpSpPr>
        <p:graphicFrame>
          <p:nvGraphicFramePr>
            <p:cNvPr id="98" name="Object 3"/>
            <p:cNvGraphicFramePr/>
            <p:nvPr/>
          </p:nvGraphicFramePr>
          <p:xfrm>
            <a:off x="304920" y="4419720"/>
            <a:ext cx="1066680" cy="106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Object 14"/>
            <p:cNvGraphicFramePr/>
            <p:nvPr/>
          </p:nvGraphicFramePr>
          <p:xfrm>
            <a:off x="304920" y="5486400"/>
            <a:ext cx="1066680" cy="1066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2" name="Object 21"/>
          <p:cNvGraphicFramePr/>
          <p:nvPr/>
        </p:nvGraphicFramePr>
        <p:xfrm>
          <a:off x="533520" y="304920"/>
          <a:ext cx="10666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0492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22"/>
          <p:cNvGraphicFramePr/>
          <p:nvPr/>
        </p:nvGraphicFramePr>
        <p:xfrm>
          <a:off x="533520" y="1752480"/>
          <a:ext cx="1066680" cy="106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1752480"/>
                    <a:ext cx="1066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23"/>
          <p:cNvSpPr/>
          <p:nvPr/>
        </p:nvSpPr>
        <p:spPr>
          <a:xfrm>
            <a:off x="60948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5"/>
          <p:cNvGrpSpPr/>
          <p:nvPr/>
        </p:nvGrpSpPr>
        <p:grpSpPr>
          <a:xfrm>
            <a:off x="1371600" y="4419720"/>
            <a:ext cx="1066680" cy="2133360"/>
            <a:chOff x="1371600" y="4419720"/>
            <a:chExt cx="1066680" cy="2133360"/>
          </a:xfrm>
        </p:grpSpPr>
        <p:graphicFrame>
          <p:nvGraphicFramePr>
            <p:cNvPr id="108" name="Object 26"/>
            <p:cNvGraphicFramePr/>
            <p:nvPr/>
          </p:nvGraphicFramePr>
          <p:xfrm>
            <a:off x="1371600" y="4419720"/>
            <a:ext cx="1066680" cy="1066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Object 2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37160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Object 27"/>
            <p:cNvGraphicFramePr/>
            <p:nvPr/>
          </p:nvGraphicFramePr>
          <p:xfrm>
            <a:off x="1371600" y="5486400"/>
            <a:ext cx="1066680" cy="1066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1" name="Object 2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37160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" name="Group 28"/>
          <p:cNvGrpSpPr/>
          <p:nvPr/>
        </p:nvGrpSpPr>
        <p:grpSpPr>
          <a:xfrm>
            <a:off x="2438280" y="4419720"/>
            <a:ext cx="1066680" cy="2133360"/>
            <a:chOff x="2438280" y="4419720"/>
            <a:chExt cx="1066680" cy="2133360"/>
          </a:xfrm>
        </p:grpSpPr>
        <p:graphicFrame>
          <p:nvGraphicFramePr>
            <p:cNvPr id="113" name="Object 29"/>
            <p:cNvGraphicFramePr/>
            <p:nvPr/>
          </p:nvGraphicFramePr>
          <p:xfrm>
            <a:off x="2438280" y="4419720"/>
            <a:ext cx="1066680" cy="1066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4" name="Object 29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3828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Object 30"/>
            <p:cNvGraphicFramePr/>
            <p:nvPr/>
          </p:nvGraphicFramePr>
          <p:xfrm>
            <a:off x="2438280" y="5486400"/>
            <a:ext cx="1066680" cy="1066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6" name="Object 30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3828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Group 31"/>
          <p:cNvGrpSpPr/>
          <p:nvPr/>
        </p:nvGrpSpPr>
        <p:grpSpPr>
          <a:xfrm>
            <a:off x="3505320" y="4419720"/>
            <a:ext cx="1066680" cy="2133360"/>
            <a:chOff x="3505320" y="4419720"/>
            <a:chExt cx="1066680" cy="2133360"/>
          </a:xfrm>
        </p:grpSpPr>
        <p:graphicFrame>
          <p:nvGraphicFramePr>
            <p:cNvPr id="118" name="Object 32"/>
            <p:cNvGraphicFramePr/>
            <p:nvPr/>
          </p:nvGraphicFramePr>
          <p:xfrm>
            <a:off x="3505320" y="4419720"/>
            <a:ext cx="1066680" cy="10666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19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50532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Object 33"/>
            <p:cNvGraphicFramePr/>
            <p:nvPr/>
          </p:nvGraphicFramePr>
          <p:xfrm>
            <a:off x="3505320" y="5486400"/>
            <a:ext cx="1066680" cy="1066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1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50532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Group 34"/>
          <p:cNvGrpSpPr/>
          <p:nvPr/>
        </p:nvGrpSpPr>
        <p:grpSpPr>
          <a:xfrm>
            <a:off x="4572000" y="4419720"/>
            <a:ext cx="1066680" cy="2133360"/>
            <a:chOff x="4572000" y="4419720"/>
            <a:chExt cx="1066680" cy="2133360"/>
          </a:xfrm>
        </p:grpSpPr>
        <p:graphicFrame>
          <p:nvGraphicFramePr>
            <p:cNvPr id="123" name="Object 35"/>
            <p:cNvGraphicFramePr/>
            <p:nvPr/>
          </p:nvGraphicFramePr>
          <p:xfrm>
            <a:off x="4572000" y="4419720"/>
            <a:ext cx="1066680" cy="1066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4" name="Object 35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57200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36"/>
            <p:cNvGraphicFramePr/>
            <p:nvPr/>
          </p:nvGraphicFramePr>
          <p:xfrm>
            <a:off x="4572000" y="5486400"/>
            <a:ext cx="1066680" cy="10666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6" name="Object 36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57200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" name="Group 37"/>
          <p:cNvGrpSpPr/>
          <p:nvPr/>
        </p:nvGrpSpPr>
        <p:grpSpPr>
          <a:xfrm>
            <a:off x="5638680" y="4419720"/>
            <a:ext cx="1066680" cy="2133360"/>
            <a:chOff x="5638680" y="4419720"/>
            <a:chExt cx="1066680" cy="2133360"/>
          </a:xfrm>
        </p:grpSpPr>
        <p:graphicFrame>
          <p:nvGraphicFramePr>
            <p:cNvPr id="128" name="Object 38"/>
            <p:cNvGraphicFramePr/>
            <p:nvPr/>
          </p:nvGraphicFramePr>
          <p:xfrm>
            <a:off x="5638680" y="4419720"/>
            <a:ext cx="1066680" cy="10666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29" name="Object 38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63868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39"/>
            <p:cNvGraphicFramePr/>
            <p:nvPr/>
          </p:nvGraphicFramePr>
          <p:xfrm>
            <a:off x="5638680" y="5486400"/>
            <a:ext cx="1066680" cy="10666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1" name="Object 39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63868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" name="Group 40"/>
          <p:cNvGrpSpPr/>
          <p:nvPr/>
        </p:nvGrpSpPr>
        <p:grpSpPr>
          <a:xfrm>
            <a:off x="6705720" y="4419720"/>
            <a:ext cx="1066680" cy="2133360"/>
            <a:chOff x="6705720" y="4419720"/>
            <a:chExt cx="1066680" cy="2133360"/>
          </a:xfrm>
        </p:grpSpPr>
        <p:graphicFrame>
          <p:nvGraphicFramePr>
            <p:cNvPr id="133" name="Object 41"/>
            <p:cNvGraphicFramePr/>
            <p:nvPr/>
          </p:nvGraphicFramePr>
          <p:xfrm>
            <a:off x="6705720" y="4419720"/>
            <a:ext cx="1066680" cy="10666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4" name="Object 41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70572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42"/>
            <p:cNvGraphicFramePr/>
            <p:nvPr/>
          </p:nvGraphicFramePr>
          <p:xfrm>
            <a:off x="6705720" y="5486400"/>
            <a:ext cx="1066680" cy="1066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6" name="Object 42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Group 43"/>
          <p:cNvGrpSpPr/>
          <p:nvPr/>
        </p:nvGrpSpPr>
        <p:grpSpPr>
          <a:xfrm>
            <a:off x="7772400" y="4419720"/>
            <a:ext cx="1066680" cy="2133360"/>
            <a:chOff x="7772400" y="4419720"/>
            <a:chExt cx="1066680" cy="2133360"/>
          </a:xfrm>
        </p:grpSpPr>
        <p:graphicFrame>
          <p:nvGraphicFramePr>
            <p:cNvPr id="138" name="Object 44"/>
            <p:cNvGraphicFramePr/>
            <p:nvPr/>
          </p:nvGraphicFramePr>
          <p:xfrm>
            <a:off x="7772400" y="4419720"/>
            <a:ext cx="1066680" cy="10666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9" name="Object 44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7772400" y="441972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45"/>
            <p:cNvGraphicFramePr/>
            <p:nvPr/>
          </p:nvGraphicFramePr>
          <p:xfrm>
            <a:off x="7772400" y="5486400"/>
            <a:ext cx="1066680" cy="106668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41" name="Object 45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772400" y="5486400"/>
                      <a:ext cx="106668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04920" y="2286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chuifpatro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1143000" y="914400"/>
          <a:ext cx="2743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3886200" y="914400"/>
          <a:ext cx="274320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9144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1143000" y="3657600"/>
          <a:ext cx="274320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6576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3886200" y="3657600"/>
          <a:ext cx="274320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3657600"/>
                    <a:ext cx="2743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7"/>
          <p:cNvSpPr/>
          <p:nvPr/>
        </p:nvSpPr>
        <p:spPr>
          <a:xfrm>
            <a:off x="6781680" y="4267080"/>
            <a:ext cx="236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bij verschuiving horizontaal en vertica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914400" y="1143000"/>
          <a:ext cx="18223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182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5"/>
          <p:cNvGraphicFramePr/>
          <p:nvPr/>
        </p:nvGraphicFramePr>
        <p:xfrm>
          <a:off x="2743200" y="1143000"/>
          <a:ext cx="18223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143000"/>
                    <a:ext cx="182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"/>
          <p:cNvGraphicFramePr/>
          <p:nvPr/>
        </p:nvGraphicFramePr>
        <p:xfrm>
          <a:off x="4572000" y="1143000"/>
          <a:ext cx="182232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143000"/>
                    <a:ext cx="182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1"/>
          <p:cNvGraphicFramePr/>
          <p:nvPr/>
        </p:nvGraphicFramePr>
        <p:xfrm>
          <a:off x="6400800" y="1143000"/>
          <a:ext cx="182232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143000"/>
                    <a:ext cx="18223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Group 15"/>
          <p:cNvGrpSpPr/>
          <p:nvPr/>
        </p:nvGrpSpPr>
        <p:grpSpPr>
          <a:xfrm>
            <a:off x="914400" y="2971800"/>
            <a:ext cx="7308720" cy="1828800"/>
            <a:chOff x="914400" y="2971800"/>
            <a:chExt cx="7308720" cy="1828800"/>
          </a:xfrm>
        </p:grpSpPr>
        <p:graphicFrame>
          <p:nvGraphicFramePr>
            <p:cNvPr id="161" name="Object 4"/>
            <p:cNvGraphicFramePr/>
            <p:nvPr/>
          </p:nvGraphicFramePr>
          <p:xfrm>
            <a:off x="2743200" y="2971800"/>
            <a:ext cx="1822320" cy="182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2" name="Object 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43200" y="29718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6"/>
            <p:cNvGraphicFramePr/>
            <p:nvPr/>
          </p:nvGraphicFramePr>
          <p:xfrm>
            <a:off x="914400" y="2971800"/>
            <a:ext cx="1822320" cy="1828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14400" y="29718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9"/>
            <p:cNvGraphicFramePr/>
            <p:nvPr/>
          </p:nvGraphicFramePr>
          <p:xfrm>
            <a:off x="4572000" y="2971800"/>
            <a:ext cx="1822320" cy="1828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6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72000" y="29718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Object 12"/>
            <p:cNvGraphicFramePr/>
            <p:nvPr/>
          </p:nvGraphicFramePr>
          <p:xfrm>
            <a:off x="6400800" y="2971800"/>
            <a:ext cx="1822320" cy="1828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400800" y="29718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9" name="Group 16"/>
          <p:cNvGrpSpPr/>
          <p:nvPr/>
        </p:nvGrpSpPr>
        <p:grpSpPr>
          <a:xfrm>
            <a:off x="914400" y="4800600"/>
            <a:ext cx="7308720" cy="1828800"/>
            <a:chOff x="914400" y="4800600"/>
            <a:chExt cx="7308720" cy="1828800"/>
          </a:xfrm>
        </p:grpSpPr>
        <p:graphicFrame>
          <p:nvGraphicFramePr>
            <p:cNvPr id="170" name="Object 3"/>
            <p:cNvGraphicFramePr/>
            <p:nvPr/>
          </p:nvGraphicFramePr>
          <p:xfrm>
            <a:off x="2743200" y="4800600"/>
            <a:ext cx="1822320" cy="1828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1" name="Object 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43200" y="48006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Object 7"/>
            <p:cNvGraphicFramePr/>
            <p:nvPr/>
          </p:nvGraphicFramePr>
          <p:xfrm>
            <a:off x="914400" y="4800600"/>
            <a:ext cx="1822320" cy="18288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3" name="Object 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14400" y="48006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Object 8"/>
            <p:cNvGraphicFramePr/>
            <p:nvPr/>
          </p:nvGraphicFramePr>
          <p:xfrm>
            <a:off x="4572000" y="4800600"/>
            <a:ext cx="1822320" cy="1828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5" name="Object 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572000" y="48006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Object 13"/>
            <p:cNvGraphicFramePr/>
            <p:nvPr/>
          </p:nvGraphicFramePr>
          <p:xfrm>
            <a:off x="6400800" y="4800600"/>
            <a:ext cx="1822320" cy="1828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7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400800" y="4800600"/>
                      <a:ext cx="182232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78" name="Text Box 14"/>
          <p:cNvSpPr/>
          <p:nvPr/>
        </p:nvSpPr>
        <p:spPr>
          <a:xfrm>
            <a:off x="838080" y="3808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AKVU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4:29:59Z</dcterms:created>
  <dc:creator>tonk</dc:creator>
  <dc:description/>
  <dc:language>en-US</dc:language>
  <cp:lastModifiedBy>Konings Ton</cp:lastModifiedBy>
  <dcterms:modified xsi:type="dcterms:W3CDTF">2016-12-15T11:10:49Z</dcterms:modified>
  <cp:revision>7</cp:revision>
  <dc:subject/>
  <dc:title>3. Hoe Escher begonnen is</dc:title>
</cp:coreProperties>
</file>