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0F4-DDCE-4DF0-B8DC-721EC8A9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28F-9A9F-47D2-8A50-6AEEB5CE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DDF-EE5D-4BA9-915F-55AC11F2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FA2-CBEB-4AB8-9C1F-CF5168BA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040-F5C2-4191-B770-E9964B64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381-A14F-4233-BC66-100D6758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A80-F32A-4735-B9E2-016F4F5A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031-EEF2-4E88-B4FC-6DAE1E64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496-2F4A-46AF-B4CE-6E536F89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D01-238E-4D1C-AF4A-2FAB0D2C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2B9-372A-4D38-916F-7061E50B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CBE-2F24-499D-87EA-1A2A9D96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F5F1-C0B5-4C8B-BC5A-D730A8475A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elH1S32dOg" TargetMode="External"/><Relationship Id="rId2" Type="http://schemas.openxmlformats.org/officeDocument/2006/relationships/hyperlink" Target="https://www.youtube.com/watch?v=DelH1S32dOg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kerstprijsvraag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zend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beetje wisku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over werkwij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MG_0960"/>
          <p:cNvPicPr/>
          <p:nvPr/>
        </p:nvPicPr>
        <p:blipFill>
          <a:blip r:embed="rId1"/>
          <a:stretch/>
        </p:blipFill>
        <p:spPr>
          <a:xfrm>
            <a:off x="2195640" y="1197000"/>
            <a:ext cx="4522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wel iedereen maakte het object  al do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S5020127"/>
          <p:cNvPicPr/>
          <p:nvPr/>
        </p:nvPicPr>
        <p:blipFill>
          <a:blip r:embed="rId1"/>
          <a:stretch/>
        </p:blipFill>
        <p:spPr>
          <a:xfrm>
            <a:off x="900000" y="941400"/>
            <a:ext cx="76327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akt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leek mij handig om eerst een mal te maken voor de 18 rechtopstaande potloden van schuim, hout, piepschuim, o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astiekjes hielden de boel op de plaa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jmen is wel nod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daar dat ik de hulp van Harrie heb ingeschakeld, hij is vader van een vriendin en timmerma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en praktische werkwij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Tijdelijke aanduiding voor inhoud 6" descr="IMG_1459.JPG"/>
          <p:cNvPicPr/>
          <p:nvPr/>
        </p:nvPicPr>
        <p:blipFill>
          <a:blip r:embed="rId1"/>
          <a:stretch/>
        </p:blipFill>
        <p:spPr>
          <a:xfrm>
            <a:off x="5148360" y="3716280"/>
            <a:ext cx="3779640" cy="2835360"/>
          </a:xfrm>
          <a:prstGeom prst="rect">
            <a:avLst/>
          </a:prstGeom>
          <a:ln w="0">
            <a:noFill/>
          </a:ln>
        </p:spPr>
      </p:pic>
      <p:pic>
        <p:nvPicPr>
          <p:cNvPr id="85" name="Tijdelijke aanduiding voor inhoud 7" descr="IMG_1460.JPG"/>
          <p:cNvPicPr/>
          <p:nvPr/>
        </p:nvPicPr>
        <p:blipFill>
          <a:blip r:embed="rId2"/>
          <a:stretch/>
        </p:blipFill>
        <p:spPr>
          <a:xfrm>
            <a:off x="468360" y="1341360"/>
            <a:ext cx="3941640" cy="525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MG_0874"/>
          <p:cNvPicPr/>
          <p:nvPr/>
        </p:nvPicPr>
        <p:blipFill>
          <a:blip r:embed="rId3"/>
          <a:srcRect l="0" t="4206" r="0" b="22008"/>
          <a:stretch/>
        </p:blipFill>
        <p:spPr>
          <a:xfrm>
            <a:off x="6443640" y="0"/>
            <a:ext cx="27003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dere constructiewijz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ube.com/watch?v=DelH1S32dO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van binnenui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n nieuwe 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 je nu de gaten opvullen met nog meer potloden? in een mooie regelma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u het dan toch zonder lijm kun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je een lamp in het midden hangt, wat zie je dan op de mu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 zoiets ook met driekantige potloden? of vijfkantige? of ron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 je op de regelmatige veelvlakken met stoken ook zoiets bouw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plezier ve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68360" y="5877000"/>
            <a:ext cx="835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t vriendelijke gro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n ko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P1010172"/>
          <p:cNvPicPr/>
          <p:nvPr/>
        </p:nvPicPr>
        <p:blipFill>
          <a:blip r:embed="rId1"/>
          <a:stretch/>
        </p:blipFill>
        <p:spPr>
          <a:xfrm>
            <a:off x="0" y="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potloodobject lumens"/>
          <p:cNvPicPr/>
          <p:nvPr/>
        </p:nvPicPr>
        <p:blipFill>
          <a:blip r:embed="rId2"/>
          <a:stretch/>
        </p:blipFill>
        <p:spPr>
          <a:xfrm>
            <a:off x="3059280" y="0"/>
            <a:ext cx="3025440" cy="227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IMG_0937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229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IMG_0941"/>
          <p:cNvPicPr/>
          <p:nvPr/>
        </p:nvPicPr>
        <p:blipFill>
          <a:blip r:embed="rId4"/>
          <a:stretch/>
        </p:blipFill>
        <p:spPr>
          <a:xfrm>
            <a:off x="0" y="2276640"/>
            <a:ext cx="3059280" cy="2293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IMG_0942"/>
          <p:cNvPicPr/>
          <p:nvPr/>
        </p:nvPicPr>
        <p:blipFill>
          <a:blip r:embed="rId5"/>
          <a:stretch/>
        </p:blipFill>
        <p:spPr>
          <a:xfrm>
            <a:off x="3059280" y="2276640"/>
            <a:ext cx="3025440" cy="226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IMG_0945"/>
          <p:cNvPicPr/>
          <p:nvPr/>
        </p:nvPicPr>
        <p:blipFill>
          <a:blip r:embed="rId6"/>
          <a:stretch/>
        </p:blipFill>
        <p:spPr>
          <a:xfrm>
            <a:off x="6084720" y="227664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IMG_0947"/>
          <p:cNvPicPr/>
          <p:nvPr/>
        </p:nvPicPr>
        <p:blipFill>
          <a:blip r:embed="rId7"/>
          <a:stretch/>
        </p:blipFill>
        <p:spPr>
          <a:xfrm>
            <a:off x="0" y="4564080"/>
            <a:ext cx="3059280" cy="229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IMG_0953"/>
          <p:cNvPicPr/>
          <p:nvPr/>
        </p:nvPicPr>
        <p:blipFill>
          <a:blip r:embed="rId8"/>
          <a:stretch/>
        </p:blipFill>
        <p:spPr>
          <a:xfrm>
            <a:off x="3059280" y="4562640"/>
            <a:ext cx="3060360" cy="2295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IMG_0956"/>
          <p:cNvPicPr/>
          <p:nvPr/>
        </p:nvPicPr>
        <p:blipFill>
          <a:blip r:embed="rId9"/>
          <a:stretch/>
        </p:blipFill>
        <p:spPr>
          <a:xfrm>
            <a:off x="6084720" y="4562640"/>
            <a:ext cx="30592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IMG_0950"/>
          <p:cNvPicPr/>
          <p:nvPr/>
        </p:nvPicPr>
        <p:blipFill>
          <a:blip r:embed="rId1"/>
          <a:stretch/>
        </p:blipFill>
        <p:spPr>
          <a:xfrm>
            <a:off x="0" y="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IMG_0962"/>
          <p:cNvPicPr/>
          <p:nvPr/>
        </p:nvPicPr>
        <p:blipFill>
          <a:blip r:embed="rId2"/>
          <a:stretch/>
        </p:blipFill>
        <p:spPr>
          <a:xfrm>
            <a:off x="1476360" y="224172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IMG_0963"/>
          <p:cNvPicPr/>
          <p:nvPr/>
        </p:nvPicPr>
        <p:blipFill>
          <a:blip r:embed="rId3"/>
          <a:stretch/>
        </p:blipFill>
        <p:spPr>
          <a:xfrm>
            <a:off x="0" y="4562640"/>
            <a:ext cx="3059280" cy="229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IMG_0959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IMG_0961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245916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lapstuk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hans van haaren, deeltijdstuden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x-timmerman)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stanjehout, vele uren zagen en sch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IMG_0933"/>
          <p:cNvPicPr/>
          <p:nvPr/>
        </p:nvPicPr>
        <p:blipFill>
          <a:blip r:embed="rId1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G_0935"/>
          <p:cNvPicPr/>
          <p:nvPr/>
        </p:nvPicPr>
        <p:blipFill>
          <a:blip r:embed="rId2"/>
          <a:stretch/>
        </p:blipFill>
        <p:spPr>
          <a:xfrm>
            <a:off x="3027240" y="0"/>
            <a:ext cx="6102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z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ielle Verplanke,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rjolein Hardeman,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rla Backelandt,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ndel Goossens,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is Philipsen,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uter Ras,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urik Koopman,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anine Rongen, 3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bke Hubbers, 3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bert Bijl, 3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trid van Soomeren, 3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jn Voets, 3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j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 Wellens, deel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go Oritjan, deel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ni van Ommeren, deel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s van Haaren, deel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o en Peter van Hinthum, kleinzoon en schoonzoon van kenni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itspraken in de verslag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t was nou eens een echte uitdaging. En leuk, maar ook bijzonder spannend om te doen .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k had het meegenomen op skivakanti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st van de familie vond het erg interessant en iedereen vond dat ik het moest doen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taadaa!! het mooie kunstwerk was a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k ben er heel trots op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n ook frustr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na twee keer proberen was de oase helemaal uitgelubberd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k besloot om helemaal opnieuw te beginnen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rie paar handen lukte het om het in elkaar te krijgen, maar daarbij is het object vier keer uit elkaar gevalle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beetje wiskundige 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voor veelvlak zit er  binnen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4 zeshoekige doorsn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ribben in 4 rich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067280" y="1197000"/>
            <a:ext cx="45910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796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uitentwaalfvla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3222720" y="830160"/>
            <a:ext cx="5921280" cy="6027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395280" y="2060640"/>
            <a:ext cx="273672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kun je zien als een vorm opgebouwd uit piramides op een kubus, zó dat driehoekige zijvlakken in elkar doorl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je de hoeken in de ruiten berekent weet je ook precies de hoeken tussen de potlod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geveer 70 of 110 gra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1:17:44Z</dcterms:created>
  <dc:creator>kngai</dc:creator>
  <dc:description/>
  <dc:language>en-US</dc:language>
  <cp:lastModifiedBy>Konings Ton</cp:lastModifiedBy>
  <dcterms:modified xsi:type="dcterms:W3CDTF">2016-11-17T08:26:24Z</dcterms:modified>
  <cp:revision>10</cp:revision>
  <dc:subject/>
  <dc:title>Dia 1</dc:title>
</cp:coreProperties>
</file>