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B5C-8589-4419-9302-D6AA59FC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A90-1923-430F-A749-B04C15F3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A0E-6DB0-4BA6-AA5B-BD12A8E6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F17-BA49-486C-8294-E921B429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4FF-5BF9-44F0-B902-05F61E3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D72-6F14-4BA9-9AAB-C0A7D84E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763-C7BA-4722-A3C9-04F3D5E9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7CD-555D-49BC-8DA8-39040318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F76-6294-47C9-A960-DC64A3F3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DE2-9707-4179-9FE6-FC85F5EC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EF9-DFFD-4417-9FA9-F8622A41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7E0-CEA2-4AF1-8DE1-A50F2BF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86CA-2E5D-45CC-BCA1-F75B2239F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90520"/>
            <a:ext cx="8785440" cy="627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79640" y="5661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en reusachtig 2006 toegewen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539640" y="836640"/>
            <a:ext cx="80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ettige feestdagen 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een reusachtig 20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et vele wenselijke vormen van gro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8:54:40Z</dcterms:created>
  <dc:creator>kngai</dc:creator>
  <dc:description/>
  <dc:language>en-US</dc:language>
  <cp:lastModifiedBy>kngai</cp:lastModifiedBy>
  <dcterms:modified xsi:type="dcterms:W3CDTF">2005-12-16T08:59:44Z</dcterms:modified>
  <cp:revision>2</cp:revision>
  <dc:subject/>
  <dc:title>Dia 1</dc:title>
</cp:coreProperties>
</file>