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39E-C58B-4A82-8E91-93AB5D28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EE6-D52D-4F74-9F25-FE8431ED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D53-EABA-44A3-9C8D-8F2782B7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3A2-B821-4927-8290-23E838DB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607-74ED-4F44-8F1A-2882327C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E75-480F-4CB0-B6B0-9BC896A9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9F4-1A4B-4016-83B6-95197E74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976-C912-4DC0-8ED8-47AF03CA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D82-9BDC-44E6-A0F0-56EFF23D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088-7B3D-449D-BA6A-DD6BBADE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3DB-97D0-4319-A7A0-964AC1F8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3E4-1317-4265-BEEA-E606C159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1554-B367-4DB0-913F-BDF40DDC5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ruitentwaalfvlak,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uwd op een ku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52640" y="1600200"/>
            <a:ext cx="40338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2640" y="1600200"/>
            <a:ext cx="40338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2396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5:54:54Z</dcterms:created>
  <dc:creator>kngai</dc:creator>
  <dc:description/>
  <dc:language>en-US</dc:language>
  <cp:lastModifiedBy>kngai</cp:lastModifiedBy>
  <dcterms:modified xsi:type="dcterms:W3CDTF">2007-01-17T09:42:26Z</dcterms:modified>
  <cp:revision>3</cp:revision>
  <dc:subject/>
  <dc:title>Het ruitentwaalfvlak,  gebouwd op een kubus</dc:title>
</cp:coreProperties>
</file>