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216-6965-48A6-B967-199FAA01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88D-2249-431A-8D53-BA1B83DC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D44-7CD7-4F33-81A0-E44403CB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B4A-7E4B-44A4-9E1F-3C99458E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27E-FA44-4F16-A88A-F5D33F2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618-CF16-4673-BBDB-47BF5D9D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E84-35F3-4FD1-AD4A-FC96B265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C5E-F66A-4B29-BE41-67800EB0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BDB-7A12-4216-B049-68E05ECA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A64-0BA4-4946-90F7-06145919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94B-26FB-4B52-85C9-6D8BD1D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214-1873-4A16-B072-422FE740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520C-5D7A-4CD3-8B8F-5D6DA2CE015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elname kerstprijsvraag 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ieke van roi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n alette m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fbeelding 5" descr="sneeuwman 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fbeelding 1" descr="kerstprijsvraag 1 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fbeelding 1" descr="kerstprijsvraag 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kerstprijsvraag 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1" descr="kerstprijsvraag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kerstprijsvraag 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kstvak 1"/>
          <p:cNvSpPr/>
          <p:nvPr/>
        </p:nvSpPr>
        <p:spPr>
          <a:xfrm>
            <a:off x="1714680" y="1857240"/>
            <a:ext cx="60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Calibri"/>
              </a:rPr>
              <a:t>bravo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56:27Z</dcterms:created>
  <dc:creator>konings</dc:creator>
  <dc:description/>
  <dc:language>en-US</dc:language>
  <cp:lastModifiedBy>konings</cp:lastModifiedBy>
  <dcterms:modified xsi:type="dcterms:W3CDTF">2010-01-11T15:06:10Z</dcterms:modified>
  <cp:revision>1</cp:revision>
  <dc:subject/>
  <dc:title>deelname kerstprijsvraag 2009</dc:title>
</cp:coreProperties>
</file>