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52C-5FEE-414D-876E-C22AD964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FB9-D131-43D0-9D5B-C3695A81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D063-B096-45AA-9652-85922C12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2E5B-4906-4DF3-8B1F-0A0AC8AD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78F-317B-486E-BB34-4CB2DB16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8A3-B5AB-4B53-B2A9-C2174DE7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F5E9-891B-4D0D-88D5-F95414F8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147-5A5E-498F-AF76-0BB2905F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049-CC78-4C17-812E-5C5875AB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979-3C15-4E7E-A140-EB6EC136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FEFE-9D62-42CE-8AA7-E2C52013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250F-7C57-4988-A8B7-2CF3A107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8D4B-DF4C-4C86-AA11-9B712F1942E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ijlage 1.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ulp bij plakken en knippen,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pieren en groeper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IN POWER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en bestaand plaatje kopiër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nippen en plak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lecteer eerst het te kopiëren plaatje. Klik dan met de rechter muisknop op het geselecteerde figuur. Laat de figuur kopiër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762120" y="312408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Object 10"/>
          <p:cNvGraphicFramePr/>
          <p:nvPr/>
        </p:nvGraphicFramePr>
        <p:xfrm>
          <a:off x="4572000" y="1752480"/>
          <a:ext cx="3900600" cy="43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52480"/>
                    <a:ext cx="390060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 figuur plak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760" y="17524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u op een willekeurige plaats gaat staan met de muis en dan op de rechter muisknop klikken. Met de functie plakken kun je nu de gekopieerde figuur laten verschijn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457200" y="2057400"/>
          <a:ext cx="364176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36417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roeperen van verscheidene figu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ls je van meerdere figuren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én figuur wilt maken zul je ze moeten groeperen. Door SHIFT ingedrukt te houden tijdens het selecteren van de figuren kun je ze tegelijk selecte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8"/>
          <p:cNvGraphicFramePr/>
          <p:nvPr/>
        </p:nvGraphicFramePr>
        <p:xfrm>
          <a:off x="3962520" y="3200400"/>
          <a:ext cx="3886200" cy="33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200400"/>
                    <a:ext cx="388620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3"/>
          <p:cNvGraphicFramePr/>
          <p:nvPr/>
        </p:nvGraphicFramePr>
        <p:xfrm>
          <a:off x="609480" y="0"/>
          <a:ext cx="7772400" cy="38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7772400" cy="38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437920" y="426672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groep ziet er dan als volgt u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7"/>
          <p:cNvGraphicFramePr/>
          <p:nvPr/>
        </p:nvGraphicFramePr>
        <p:xfrm>
          <a:off x="4800600" y="3733920"/>
          <a:ext cx="3581280" cy="290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733920"/>
                    <a:ext cx="358128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piegelen en draai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lecteer weer met de linker muisknop de figuur die je dit keer wilt spiegelen of draai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5"/>
          <p:cNvGraphicFramePr/>
          <p:nvPr/>
        </p:nvGraphicFramePr>
        <p:xfrm>
          <a:off x="3886200" y="3162240"/>
          <a:ext cx="480060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62240"/>
                    <a:ext cx="480060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6"/>
          <p:cNvSpPr/>
          <p:nvPr/>
        </p:nvSpPr>
        <p:spPr>
          <a:xfrm>
            <a:off x="3429000" y="4724280"/>
            <a:ext cx="83808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5800" y="3352680"/>
            <a:ext cx="304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 de functie tekenen zit zowel draaien als spiege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12:33:17Z</dcterms:created>
  <dc:creator>Vuik</dc:creator>
  <dc:description/>
  <dc:language>en-US</dc:language>
  <cp:lastModifiedBy>Konings Ton</cp:lastModifiedBy>
  <dcterms:modified xsi:type="dcterms:W3CDTF">2016-11-11T14:44:40Z</dcterms:modified>
  <cp:revision>5</cp:revision>
  <dc:subject/>
  <dc:title>15. Hulp bij plakken en knippen</dc:title>
</cp:coreProperties>
</file>